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26E0-EA51-41D0-93DE-BB74674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252B-CB30-41FF-9E94-C61A6DB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09E3-2A56-4CB3-B27F-2A94DACA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8F9C-A9D0-43DF-8AB7-431D2768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99B4-8C07-4DE8-B811-6BE0042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0882-F42A-45D2-A8F9-22E2C3F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FB5A-AF34-4879-AECE-05FDCA2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DF7B-F1F0-48B1-9DA7-0948EBF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5E52-DDBE-4727-946A-BACD8B3D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C465-48B8-4846-A6C6-6F763403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E90E-42F2-4251-9BBA-5C96D32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6C0D-E825-4527-ADCD-C6A7626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1546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61800" y="0"/>
          <a:ext cx="87822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1800" y="0"/>
                    <a:ext cx="8782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334200" y="14616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EAU ET MILIEUX AQUAT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0" y="1133640"/>
          <a:ext cx="1498680" cy="190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133640"/>
                    <a:ext cx="14986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A40-0AD6-4334-BACD-B42E948C94E5}" type="slidenum"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logo_meeddat" descr=""/>
          <p:cNvPicPr/>
          <p:nvPr/>
        </p:nvPicPr>
        <p:blipFill>
          <a:blip r:embed="rId8"/>
          <a:stretch/>
        </p:blipFill>
        <p:spPr>
          <a:xfrm>
            <a:off x="152280" y="4952880"/>
            <a:ext cx="12556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133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1546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estion" descr=""/>
          <p:cNvPicPr/>
          <p:nvPr/>
        </p:nvPicPr>
        <p:blipFill>
          <a:blip r:embed="rId4"/>
          <a:stretch/>
        </p:blipFill>
        <p:spPr>
          <a:xfrm>
            <a:off x="6108840" y="609480"/>
            <a:ext cx="16254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mer" descr=""/>
          <p:cNvPicPr/>
          <p:nvPr/>
        </p:nvPicPr>
        <p:blipFill>
          <a:blip r:embed="rId5"/>
          <a:stretch/>
        </p:blipFill>
        <p:spPr>
          <a:xfrm>
            <a:off x="2971800" y="609480"/>
            <a:ext cx="15177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489560" y="609480"/>
          <a:ext cx="1619280" cy="107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89560" y="609480"/>
                    <a:ext cx="161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1800" y="0"/>
          <a:ext cx="878220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1800" y="0"/>
                    <a:ext cx="8782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375240" y="15552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EAU ET MILIEUX AQUAT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ivieres" descr=""/>
          <p:cNvPicPr/>
          <p:nvPr/>
        </p:nvPicPr>
        <p:blipFill>
          <a:blip r:embed="rId10"/>
          <a:stretch/>
        </p:blipFill>
        <p:spPr>
          <a:xfrm>
            <a:off x="7734240" y="609480"/>
            <a:ext cx="1409760" cy="107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609480"/>
          <a:ext cx="299736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609480"/>
                    <a:ext cx="2997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logo_meeddat" descr=""/>
          <p:cNvPicPr/>
          <p:nvPr/>
        </p:nvPicPr>
        <p:blipFill>
          <a:blip r:embed="rId13"/>
          <a:stretch/>
        </p:blipFill>
        <p:spPr>
          <a:xfrm>
            <a:off x="152280" y="4952880"/>
            <a:ext cx="125568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Zones humides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IFORE – 18 &amp;19 septembre 2008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30481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appel des dispositifs territoriaux récents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loi relative au développement des territoires ruraux du 23.02.05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ones humides d’intérêt environnemental particulier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ones stratégiques pour la gestion de l’eau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onération de la taxe sur le foncier non bâti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élimitation dans le cadre de la police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bjectif, cadre d’application, conséquences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éalisation pratique, méthodologi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élimitation des zones humides dans le cadre de la police de l’eau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art. L.214-7-1, R.211-108, arrêté du 24.06.08 et circ. du 25.06.08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21337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Objectif : conforter l’application de la réglementation au titre de la police de l’eau en zones humides </a:t>
            </a:r>
            <a:r>
              <a:rPr b="1" i="1" lang="fr-FR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fr-FR" sz="1800" spc="-1" strike="noStrike">
                <a:solidFill>
                  <a:srgbClr val="000000"/>
                </a:solidFill>
                <a:latin typeface="Century Gothic"/>
              </a:rPr>
              <a:t>réglementation des usages et des activités</a:t>
            </a:r>
            <a:r>
              <a:rPr b="1" i="1" lang="fr-FR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fr-F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=&gt;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entury Gothic"/>
              </a:rPr>
              <a:t>possibilité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 de délimitation des ZH pa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entury Gothic"/>
              </a:rPr>
              <a:t>arrêté préfectoral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 (L.214-7-1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=&gt;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entury Gothic"/>
              </a:rPr>
              <a:t>critères techniques précis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 détaillant LA définition des zones humides (R.211-108, arrêté du 25.06.08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entury Gothic"/>
              </a:rPr>
              <a:t>« terrains, exploités ou non, habituellement inondés ou gorgés d’eau douce, salée ou saumâtre de façon permanente ou temporaire ; la végétation, quand elle existe, y est dominée par des plantes hygrophiles pendant au moins une partie de l’année » (L.211-1)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entury Gothic"/>
              </a:rPr>
              <a:t>=&gt; 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éviter la dégradation des ZH : instruction d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entury Gothic"/>
              </a:rPr>
              <a:t>nouveaux 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dossiers (sans préjuger des ccl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BF6C-F387-428C-ACE5-4B66324B16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élimitation des zones humides dans le cadre de la police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Une démarche qui n’est pas nécessaire pour appliquer la police de l’eau</a:t>
            </a: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cibler les zones à enjeux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rrêté préfectoral de délimitation  (attn au 1er !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Une méthodologie qui s’impose dans le cadre de la mise en œuvre de la police de l’eau, mais qui n’est pas requise pour les autres dispositifs</a:t>
            </a: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néanmoin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« juge de paix »,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saisir les opportunités (valider inventaires existants, réalisation de nouvelles études…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AEB7-7086-487C-9AC1-513D74CCBA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élimitation des ZH dans le cadre de la police de l’eau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Mode opératoire simplifié de l’utilisation des informations disponibles  pour l’instruction de nouveaux dossiers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cf. annexe 1 de la circula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Réalisation technique et méthodologi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Déclinaison opérationnelle de LA définition des ZH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« terrains, exploités ou non, habituellement inondés ou gorgés d’eau douce, salée ou saumâtre de façon permanente ou temporaire ; la végétation, quand elle existe, y est dominée par des plantes hygrophiles pendant au moins une partie de l’année » (L.211-1)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« - morphologie des sols liés à la présence prolongées d’eau d’origine naturelle et à la présence éventuelle de plantes hygrophiles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- en l’absence de végétation hygrophile, la morphologie des sols suffit 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- délimitation effectuée à l’aide des cotes de crue ou de niveau phréatique pertinentes au regard des critères pédologiques et de végétation » (R221-108)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entury Gothic"/>
              </a:rPr>
              <a:t>Liste de types de sols, listes d’espèces et habitats (arrêté du 24.06.08)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cf. annexe 2 de la circula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3664-EEBF-424C-BEEF-CD47A93E4A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zones humides d’intérêt environnemental particulier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art. L.211-3 du CE ; R.114-1 à 10 CR ; circ. du 30.05.08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Objectif : Un dispositif réglementaire pour mettre en oeuvre des programmes d’action concertés 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(possibilité de financement, obligation de résultats en terme d’actions)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ecteurs concernés : zones soumises à contraintes environnementales 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« ZSCE » (zones d’érosion diffuse, zones de protection des aires d’alimentation des captages, zones humides d’intérêt environnemental particulier)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soit pour les « ZHIEP » 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nature de « zone humide » (LA définition L.211-1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=&gt; méthodologie « police de l’eau » pas obligato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intérêt écologique (biodiversité, gestion intégrée du bassin versant), cynégétique, paysager, touristique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=&gt; appréciation qualitativ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84C2-FB5B-440D-B6C6-F788D239EC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zones humides d’intérêt environnemental particulier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hamp d’application prioritaire des ZSCE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isques pour la santé et la sécurité des personnes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isques de (pré)contentieux U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é-existence d’une démarche de gestion concertée à renforcer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. pour ZH : limitation des risques d’inondation, atteinte des objectifs de la DCE, préservation de la biodiversité,…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pprécier l’importance des fonctions des ZH au regard du contexte et des enjeux locaux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état des lieux / situation de l’environnement, diagnostic des pressions, dispositifs réglementaires ou contractuels mis en oeuv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8AA3-393C-49A7-9E9C-537AA581A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Le programme d’action</a:t>
            </a: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Compatible avec les dispositions du SDAGE (+ conforme aux mesures réglementaires et tenant compte des mesures contractuelles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Précisant 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es effets escomptés sur le milieu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es actions envisagées (mesures, aménagements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es objectifs en terme de souscription des mesure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es moyens mis en œuvre (aides financières MAE…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’évaluation de l’impact technique et financier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76212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6858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zones humides d’intérêt environnemental particu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1BFD-8FA0-42B3-BC9B-35FC91BB3C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28800" y="1676520"/>
            <a:ext cx="2438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- Délimitation des zones d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00400"/>
            <a:ext cx="243828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 - Définition d’un programme d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952880"/>
            <a:ext cx="2514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 - Passage à un programme d’action oblig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676520"/>
            <a:ext cx="3733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ul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CODERST, CA, CLE, CDNPS, C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+ mb listés par le Pré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rêté préfec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276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ultation (id à 1 + EPT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rêté préfec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95288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rêté préfec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133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4197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685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685800"/>
            <a:ext cx="7162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zones humides d’intérêt environnemental particu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ED42-7809-490A-9458-321FE2C6AC4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zones stratégiques pour la gestion de l’eau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L.212-5-1 du CE – circ. du 25.06.08, annexe 6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bjectif : réduire les risques de non respect des objectifs fixés dans les SDAGE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stauration de servitudes d’utilité publique (L.211-12)ou de modes spécifiques d’utilisation du sol dans les baux  (L.211-13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cteurs concernés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ature de « zone humide » (LA définition L.211-1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&gt; méthodologie « police de l’eau » pas obligatoir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térêts pour la gestion intégrée du bassin versan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ppréciation qualitativ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à confronter au contexte et enjeux locaux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E2A8-88F2-4C69-A536-7C27CE2F59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zones stratégiques pour la gestion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514600"/>
            <a:ext cx="3276360" cy="17524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819520"/>
            <a:ext cx="2590920" cy="10666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200400"/>
            <a:ext cx="990720" cy="38088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5486400" cy="76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048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ZH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581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Z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5053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8520" y="2438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754380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plémentarité et emboîtement des ZHIEP et ZS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érêts ou fonctions de la ZH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gestion BV/écologie, touris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esures (prg d’action/servitu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cédure : identification dans SAGE, puis délimitation ZHIEP (cf. supra), puis délimitation ZSGE (D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7AF5-74D0-4740-A5A2-7AE0AF655E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exonération de la taxe sur le foncier non bâti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1395D du CGI, décret 2007-511 du 03.04.07, circ. du 31.07.08)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Objectifs :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Reconnaître l’engagement du propriétaire/bailleur à préserver les zones humide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Corriger une fiscalité aujourd’hui disproportionné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ecteurs concernés 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nature de « zone humide » (LA définition L.211-1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=&gt; méthodologie « police de l’eau » pas obligato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catégories fiscales 2 ou 6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prés et pairies naturels, herbages, pâturages, landes, pâtis, bruyères, terres vaines et vagu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liste dressée par le Maire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engagement de gestion de 5 ans (cons. ZH et nature de culture au min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=&gt; Exonération de 50% ou 100% 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(ZHIEP, Natura 2000, CELRL, parcs, réserves, sites inscrits et classés,…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5A58-8041-4E40-9B1B-9915839281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ispositifs territoriaux récents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exonération de la taxe sur le foncier non bâti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Liste des parcelles dressée par le Maire sur proposition de la CCID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=&gt; DGFiP avant le 01.09.n-1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Engagement de gestion par le propriétaire et bailleur, le cas échéant</a:t>
            </a: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=&gt; DDAF ou DDEA pour visa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=&gt; DGFiP avant le 01.01.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ones humides   IF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55B5-E9DE-4E49-AD03-F69692E299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/09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2:19:03Z</dcterms:created>
  <dc:creator>CICHY Franck</dc:creator>
  <dc:description/>
  <dc:language>en-US</dc:language>
  <cp:lastModifiedBy> </cp:lastModifiedBy>
  <dcterms:modified xsi:type="dcterms:W3CDTF">2008-09-17T17:07:25Z</dcterms:modified>
  <cp:revision>50</cp:revision>
  <dc:subject/>
  <dc:title>Présentation PowerPoint</dc:title>
</cp:coreProperties>
</file>